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9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86BD-FAA7-4A9F-9347-83FA64A56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A0C4-E2E3-4BF0-8D0B-13E764954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980093-2686-4C18-BC17-B2AAA5B69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D18EFE-D630-45B3-872A-F7FCB2D73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3DA63F-BAA6-499A-AAA9-49B59879E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23B426-8E1B-45EF-B12B-DC51CEFC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D9649B-78A7-4457-8722-2D6D1B51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AD1C56-537A-4A57-8BA8-E2685956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5662D0-83F3-43F7-8A20-962111D56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B4A1FC-BFB7-4EE0-83CA-3478F0CEC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1D06B1-3FE5-44D7-9559-C875E0A33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C605B8-B03C-4389-B254-F35A15CF9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544B-7474-4B90-A032-0E32B9EDD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B919D4-B715-47AC-9B68-966F680A5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D74EF9-3F97-4D85-98E1-475EC1C4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9A3311-0EE5-4FB8-B2C9-DD1E1A4C7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A4F1CD-480F-48CF-A7EA-5634DD4FA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1089F0-FF49-4EB5-8CF2-4595EAD99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992400-DC69-44CF-9BD1-E9D3EBEB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2449D3-B528-4F0E-AC9F-0410ECAF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BAD933-1DFD-472D-AFDA-7A26DC3E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330670-E9C7-4B91-BF71-31EE57D64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8A257A-EA50-473A-9933-8D80C4AB4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0B4C-03C6-400C-847A-C10CE3108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F27F37-37C2-4CEA-BAE8-FFD4AAD3B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734B7F-6186-46A7-91E8-641737B25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A7AC3C-6202-4B5B-85AD-D2AFE92B5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F1BF65-C961-4DBB-BE28-00C899AFD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76F09C-F6CD-4A5D-8A24-F864B6154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8A90EC-92C1-49BD-9DE3-1352A30D2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34D3FE-E590-4033-9005-F50F46F4C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570977-9817-4B5D-9D94-D6EC761C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C716F8-E067-4531-8405-3EFF7A02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79CF16-3F29-4A8C-93B4-6ADA60FB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6E0E0-835F-439F-B9A3-C5F175E15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10EC52-E31E-433D-A409-0E33C88C1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696EF8-A73F-41D0-BA4A-7E8D7AE69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07019D-F538-47F6-B979-07A6DBB75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3AFEA2-1E1C-4F99-BCB1-509E79856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5AF3EA-F890-4D21-9511-23B7AF0EA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E4A6AC-FE28-4937-9FAC-F18B101AE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E632C7-1F06-48BC-8174-68B034919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6970FE-289E-478C-87D1-97DCD3D81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F4C012-347B-4424-A0B8-7B6AE4786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BF4AC9-E78C-45B7-ABC8-DEEC2603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23314-8145-4242-9B1D-34EE52774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E6C444-E818-45A1-B841-C92F703B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860EE7-D24A-4A0C-9DF0-66504587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EA5AA4-6204-49AD-8FB5-74EE59A75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7868E6-9F43-4650-9D83-4DA5855B8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E08036-4A40-4FDA-A6EF-149B83101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D79994-DD3E-4972-870F-354F802B2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5C1051-9860-425B-BDF3-B952AF609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99F036-8987-4EF2-B2BE-7848C0838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F6A41B-B65D-4007-9597-50C62B7D3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70930F-4C2A-479F-A04C-B51F11AC3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CCACD-2943-4949-82B3-D9BC446BE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D22278-BCB3-4469-B4DB-64F25B74B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A35E55-DFBE-42DF-A020-4945D6AA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991AD0-6462-4C63-8F15-332DA2AF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80FE72-3E1C-42A7-8075-01834B48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4E57D3-85B5-40D3-8E6E-59FB216A3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8A8B07-D1AA-47E9-93D0-413E21E9B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243DEF-7CC6-49B9-B289-69FCC6A55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E37E1D-4682-473E-91BD-7FF37D556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42CE49-8181-474E-8E8A-21D9E8599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CBA13B-941D-4172-B537-450886853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60767-F18E-46AF-98DB-E71388953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9913BD-ABCD-4EA5-B845-F8D7F2A24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E0D446-F6FD-4F1A-BE14-F695E7875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268A96-8417-401B-A535-FE038AB51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106A41-0686-4A3E-8125-07C80B87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20AF87-C1CD-470C-9D0A-A49AD46E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7E3E17-D603-4EC7-9B5F-A018D98E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105E47-79B4-4588-A595-1C104F296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E60A63-18AF-449E-BD81-C77029CF7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5F5CA4-DC74-4674-846E-2C74E5644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98E120-56D2-4AAE-AD2E-AA9F1D6A8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E7764-DCEC-4387-8969-C52062028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ADD97C-F6A1-49B8-98CE-F11B51716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AF5DD7-65BB-42BB-B255-0203D9A88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5466EE-FA8F-4F45-8DAF-7309661B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117DEA-3AE8-4319-BADC-6E386C9D0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6B6C9E-D6D0-4C34-ADC7-860759109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86E198-7172-437A-8900-F454CF96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84FABF-687E-4593-96AC-0CD6CD4B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E020E8-97E0-4DF8-8D8F-CB696614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6F4CBF-EA4D-4BE3-ABB2-1AA4F8B9D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AE2D6F-F71D-429A-B302-C39FEBC62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E8E5E-0B2C-4E83-96FC-007544DC2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3EC258-5030-4B6D-950E-CB08480B9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26FF67-9291-465C-8A2B-EEB734AE1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525D2E-34BE-4D2D-A946-3763DE33B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453C6E-F772-4390-BB32-27369DBB7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F880EE-6BC5-4B2E-9227-14F88EAFB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574FE5-FDDE-451B-AFCC-F97D953E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350A12-7220-4191-A85D-D32CD78AC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CE8701-5E55-4462-A3AC-63E620DB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C673F5-59DE-49E3-BBFD-44144988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9A8ABC-4AC5-4650-B8CA-8592F914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05995-D5C1-4163-BC95-A2ABC0E4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F46E65-D13D-4EB2-8E89-D10E719C4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04BBAE-348B-46AD-8A34-97E470978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3EC11C-8516-4EE7-860C-5A0F0C1B1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58F87B-B8A8-43BB-9784-2A20AF3C0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47BAC7-3083-428C-B34F-06BA63FE5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72947D-6ADF-4DAF-8852-087105153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DC7BD6-AD50-4B0E-917C-75E057B1B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DD6B84-DE17-410A-A645-7925477D5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C1F127-8E42-4D34-B16E-F8115CA3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476A01-2587-4366-947E-9C2FBFC9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906E-A3B3-4516-8521-4C0DD62C9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970F3-6625-4E64-B3DA-7EFEE36A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C112C6-1F8C-49E1-9E88-B5D93094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874349-2A2F-4391-9A52-79757105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D274CA-38F7-494F-888A-82B40EE0A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363A61-F88E-4BE6-A1F1-0BC969A77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BDDBCB-E2CD-4AE4-BD4C-00678E218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C933C2-6758-4831-A2A8-09C75E3D0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5EF799-A24C-4B55-8280-10399D4FF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21B664-5185-4631-9FEC-7185DA61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1AAA18-5E59-44D0-B4AC-BA4E46FA8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6FD319-6191-42EB-B257-6CD5FC280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99CF2-EF47-415C-88AA-9685319F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1716EF-5BE9-4351-A8DA-070BA0193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C227A5-0129-46AB-8D45-B805300F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6B92CF-E3C2-42AB-AC95-1D73758E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9F2C6F-EF9D-44C5-898A-12B6F4D4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7DDB44-10F3-444F-9669-ACB9E27FE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D4011B-C840-44AD-8A60-D2148945D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10B9BD-6B5F-4BA2-A835-FBEE5BFCE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4C69BF-FEBD-4AAC-B95C-CCB218DEE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97A092-5205-4DC0-8EB3-B26BE8BFF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ADF9BA-1D86-4AF7-B62C-80E3E28ED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C82BA-A194-4519-BB89-009F82755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BD98C8-1F78-4929-B34E-94E6AC939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E637D2-04A1-4E6E-9F82-DAD97DA79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2C541F-608C-4804-9D32-CA775B57E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D72516-240B-44DF-8470-03AE54D5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AC040D-6442-4873-B10C-659C3590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66A007-94B2-4649-A3C0-A52A4C55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8CD2C1-B2E8-4D0D-AAAF-C2E736485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3A5892-5C67-427A-AC6E-77B8D2C56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7B6496-0864-4C2F-BF72-E4F4F8FE5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034068-DFC0-4540-A2FA-20D0BA769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131A2-6DF5-4520-8965-1B54A5E2A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A21EC6-E485-4F48-A035-5B53270F5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6A7829-CCAF-4134-9F90-607870517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C6CA1A-9093-408C-BE23-F75DC7142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1AE9B7-6117-4BC6-97EB-E5EF6FB02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51FB0D-6D64-4A2E-B059-846B30DF2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D2B42C-D1DA-42DF-A77A-FA1B7929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69E0BC-C1F5-402C-8C30-483AD0583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1E64E5-71A0-4A85-82F1-F5624682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5ABD77-27D3-4AF7-A7A6-978DF390F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AA94EE-0F0E-48AC-A777-B81122BDA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BCB03-3929-4AE8-8700-8BB86A91D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013FB0-0779-4D3A-9DF3-7956531E4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34F70E-69D4-43A0-ACAF-0ABDC0C31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CC035F-5459-4DC0-9330-A8F305E12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BC8BA9-4447-4B63-8CBC-9241F9608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898C8B-884F-4900-9FFF-3E7106C05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5A6E43-1AC0-4DB9-BCCB-67CBA36FA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574C53-E63A-448D-82DA-60CA5C6DC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E3A0B5-F69B-46C2-B2D4-055F596C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95B5BB-5A86-4117-8885-B97884A8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5F1E2F-5C3F-41C3-85B2-EE1898F9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5AA40-FDDC-4658-9D65-7629DEB81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2C3DD2-4239-4A19-A8E5-2B4000527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0D87EB-441E-4D07-ACFD-D7F544DC1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A4CB5F-8559-4535-8917-059EDE44D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8D9A14D-8FB0-4B1F-8670-825231A9A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ED6AD64-4A80-4C42-A8AC-5D56D7C25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D0E7B5D-230D-4968-8E1D-1C444E610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72AD929-CA3A-4C6F-98AC-288191F87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A6A1823-B27D-4F13-AC94-D12DAF6DC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9484F21-69A3-4F73-A642-89A1ED860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30309F-5390-425C-9A45-F7412536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2642A-B936-4BE1-9471-CB29F374A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7BC71BC-64F5-4EF0-B6B7-3D617185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631DE11-5659-45DA-9BE0-B254D44B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48F39E1-8D03-4025-812A-D218E1A60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53CCC0-884E-4185-95DB-285E920A1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011833F-68FE-4207-BCBC-A10A8E8B1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994835E-570F-477D-B3AD-B456C6F3A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5854DAD-2DD2-4928-BA41-D9A57F251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3D5EE6B-385E-4955-8815-630F2C177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97183ED-4D99-480B-811B-8826BA1E2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A405313-C95D-4C00-9BE7-E4EBF229E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07169-6A9C-41C5-A4EB-965D450D1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3CD0235-534D-4095-8CD5-39C5D2B43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8CD5D11-BC47-42CD-BD65-B8E2F76F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55D6C8E-8C1D-416B-8A56-362C5623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273FC40-26CD-4E0A-A097-5B0A44BF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28A64AF-7D93-465B-A4D0-912FE49B6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391521D-86BB-4773-A235-A0CEEFD49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FBDEA7C-93D7-401E-8458-CDE5D030E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37ED7F0-95B0-4200-AFA7-C699CA980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C9CCC3B-42C9-47DF-AB27-FE57D4A94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42FB855-C554-46A2-AD79-1026EABA8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DFEDA-ECFC-408F-917D-43ED010C8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22160DD-E946-42E9-A7C2-F51F62900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4C7F5FE-B34C-4ED0-BC91-9D98FB046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460A28A-010A-4D56-AB06-FD96004D0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4D9B115-1256-409A-94FB-0DB0E775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E2CE2E8-3320-49C1-88DC-BA60EE4E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AD89C10-ACF9-4D80-B2B0-AE7922C9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DAA8883-3DB6-4E70-8E6D-0C817F630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232C916-767F-4A1D-9BC5-F0AA8172B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0650744-7A0D-434A-A42D-8D9064454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116522C-67F3-4ABF-8716-4C585F129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723C8-CC3C-4472-85D0-83900000F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2B00504-D97F-4C6F-965D-CFDB70595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04385CC-E397-4501-B519-9BF08B600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49B3635-E0F7-4BC4-930B-847663A6A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45DC8DB-9245-456F-956D-43138630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6D4D7BC-74D1-4D06-BAB9-8E59954EF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E707A2A-CE98-4166-8640-23D91A87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6E322A9-8714-412C-A37A-DB4C5E37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9F6A045-7D8B-41C5-B9D8-50EC513C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DDB7CDC-4BF7-4F4F-A16D-937BD8FE7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6721503-9357-4DB3-AD48-180052EC1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5725-FC43-4D9C-AA7D-60E187EB4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99257-404D-4114-BCB6-9468519AF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6A409A3-C2C2-4B28-95EF-DA9AE2D53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4A213DF-1059-4763-A278-F8D698808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CF5B145-F2A8-4EA8-ADA6-4EC979B3E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677BE94-0E7D-4BFF-86DE-41CE92D4B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EF88345-E219-4962-9343-0847F62E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80AC61D-E914-45AD-BB01-3AE7FC65A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DAE71C7-F308-438E-A9A0-5C6D04B4C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77A3E1D-4461-4A61-9DD6-09A52879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E89B485-BE45-4329-B525-D7568F45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07C971F-2233-4C91-A831-210A5332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B96A7-5D22-42D3-BFA0-32CEC7C9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0FF4B7E-D0A3-46E6-B1BA-228230AAC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3241388-7C10-4FE1-BAA9-A4D556118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34975F2-4604-4714-AFE3-C6632DE2A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4633AD7-9E20-41AD-B77C-CF150794E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F6E1D1F-8B95-46CE-8A5C-995263B9F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C457A09-6689-4A56-A0C8-A593784FD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6917B68-CB38-4138-B4BE-8AB03B57A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0FA6844-53EF-429C-9451-24BFE0C06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C1713FC-DC4A-449B-9E24-59655A488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D61D9B8-A42A-453E-B26F-F96FC81B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168DC-F433-4224-A6F6-6E22D746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61E1E10-DAE2-4548-BE5A-2B727C0C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AB649D6-D4C7-4470-B0C4-4D33E75F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1C3E72B-3856-4175-83F6-2A2921E0D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9E4EEEF-7568-4A46-9661-CC1C46CA7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D0DFD1B-7BAC-4C9A-9190-DE99CBD96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AB134-632D-4D5F-B2C5-4FB76088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83704-D63C-4BD9-952C-F4FBB84C7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AC7B7-2849-4942-8832-76352FCAD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8BCDC-BD65-47AF-AEFE-846DAA557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3B12D-ECB1-418B-9307-8D63C9374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A65C9-2C18-43AF-AF19-2C5E8F691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CBB4F-17E7-4DAD-83E0-FCFA6B766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0452-1F08-4F0C-95CC-02A063B09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E9C41-6B81-4915-8E9D-BF91B182F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5F5CB-EBE9-4969-BFEC-5B3772B94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D6CD7-D3BA-443C-825C-2BEAC6E5A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993E8-F52D-483D-A907-ED9CB9B7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03298-36D2-4150-8C86-8D5F7F57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A0C83-FC5E-4E3D-BCAF-5A0BACBB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9EB67-DCD3-41BB-AED0-04A271D26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180A7-2A58-4990-A87C-041529574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51BDF-6863-4CE7-896E-7E86A8AC9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370A8-1210-4B26-A7E4-931E3CB42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7CB3-E553-46AB-89CC-EB03D6FC3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D29B7-47AD-486F-A496-A1F9E8B9F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C1CDA-78C8-4E93-83FD-F3D5E71AE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FA8DB-D7F3-41D8-AFF0-B8B8AE834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29E6F-7D90-458B-8A6C-32ED38FD2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6AEB5-B027-4213-A5CD-150BA8035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2064D-2DD9-4A32-B5DF-25D4DA07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F2FC8-8833-46CA-9276-463115D5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4B731-340E-4782-881F-1EB0B294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B87E8-A4BC-48A7-B29E-1759C0324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4EDBF-B097-4753-ABCB-C2453D32B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7E9E-6990-43A3-BB1A-B67A704BC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DB3FF-D4BD-47AF-B057-D3BC8DE67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4686A-1F6D-416D-857E-411537D63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42C70-86A5-42FE-81F7-290F9020A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680789-F470-4910-BBBA-29839A899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5E89F-24FF-47FF-9337-99D57F2A7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D3B73-ACAC-428F-BF3C-15DDDAF7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0FEE3-C2D9-4D6E-9581-BC2CE4F39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8610F-6851-45D3-B1F2-03459BBB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F622E-3204-4781-8035-BE78ACBD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97781-5731-4E4F-8472-FE22A078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64FB-BC85-4F56-B68D-B06E6BCC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C7B4F-5D87-40F1-93D0-AC8049666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442FF1-4D99-48E1-86ED-D9EA3A5F7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E69BD-17E8-4A36-98FC-9EE84DE58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8566A1-D16D-4E0D-824B-EF8FBA2BD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DA9348-DD6C-48F1-8883-F48C89462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31D1D-D45B-41FE-97E0-3341AA46E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8A13A8-BCCA-4C2B-A76E-0374A557B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6F3BD5-C0FD-4465-BFB3-B6D6EF7BF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F6EB4-7411-4F7F-B817-B9DDD2D82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85D1D1-9AD6-40CF-87D4-84B22F4E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E4A4-C74C-4BEA-B344-6CE91673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CD7758-9B2D-4F1D-92F2-428687F5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DDC96-234E-4B5B-B0EA-453620EB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754CAE-F0FB-4FB6-8A29-EF35FA25C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D36E2B-BDFE-41E5-A4F6-B3D72498C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B94D4-3A8E-423D-A79E-84D6CE483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08134A-A7A8-4CBB-8D63-1961E1188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735334-F543-4513-9CD6-86EB68241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C9E110-1AE2-411A-976E-F492B2EAA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E45FF0-3D2C-44D1-996C-2D7FCD269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7AAC12-94EE-4EC4-A869-4CFF49C8C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3DB7-4B07-429A-B8D7-7D4929B3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78340B-C0EE-4703-A962-A523366F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1631C3-4BEF-46A3-B80E-710428D5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D08658-A843-4A7C-823C-CC76922A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F05ED0-8D66-45CB-BFE3-D46D5E2B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870D6-60A6-436B-8B8D-FA44A42EA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389296-8719-4C6A-ADFF-8984909F7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8294C5-1379-443C-8FD6-E31D18979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E76323-792F-430D-852D-5B82FC0D6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646B58-DEA8-4DEA-8554-9C683DD81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861D1B-9F64-4F3B-9C85-1E8745B79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05536-0333-4324-AD3A-819A1243F9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A5902-6900-414E-A2F6-010F6680F1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E1274-8B46-4886-A928-AA67176A94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C7E7D-C1F5-4C43-BE4A-BE47250BA2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1B742-C65D-4B84-A189-C70C7CCA73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9EA60-AA62-416D-A15B-E1AF55FEA3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7EB44-31CC-418E-90CE-F75E12ACBE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572DF-B362-4227-B90B-62BD7F3A3B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A7388-A6CB-4DA3-AC8E-8D0E713D14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756D5-F499-4FD6-8247-262336D354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6895C-B9C3-4493-9154-CAC0EBA25A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DF863-4796-4AF2-90B9-0665654202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A0521-5CFD-427E-9831-6F738F93D6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332280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2296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5200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82D5-B4A6-423A-BAA8-4A3158DA6A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8A018-2C20-4D54-86EB-9845914C8E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F9607-CC6E-41DE-A355-1795F868FF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332280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2296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5200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5720E-140F-4559-A776-CEE8BE7627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0FECB-A72A-43A5-BC70-0D3F3F25CC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10C9C-2588-4B9C-95C3-71FC27EE12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457200" y="332280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2296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5200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D1D29-BA88-4505-AF8A-E5B6A7DCB0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143000" y="2971800"/>
            <a:ext cx="68580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A95E6-E160-404E-9268-79B2DA9741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A94D4-DA53-4FE5-9326-5050059196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F4E0A-37A0-4571-B17F-194C6273F2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143000" y="2971800"/>
            <a:ext cx="68580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903DB-A88B-4E1D-9629-B33FE6B301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3C26C-39EF-4F7A-BA84-14E201475F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97B05-3FDD-4B65-8555-22970E6DD0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143000" y="2971800"/>
            <a:ext cx="68580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99947-01A1-4BFE-98E0-BBF2DCD17F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1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1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1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1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1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1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1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1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1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10.3: rational exponents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ember 19,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Your assignmen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695-6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9-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14-32 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34-44 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48-76 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78-88 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rational ex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ify expressions that contain rational ex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the value of an expression using a calcul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expressions in radical or exponential form, interchangeab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Rational numbers as exponents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 numbers are also call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= 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ould you do to both sid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(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=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=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6172200" y="1447920"/>
            <a:ext cx="2209680" cy="1312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Ghoulish Fright AOE"/>
              </a:rPr>
              <a:t>Fraction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Rules for rational exponents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/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√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m/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√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member these previously discussed ru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m+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/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m-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m*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ab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a/b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/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Arial"/>
              </a:rPr>
              <a:t>Write in radical form, then simplify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6/81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/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-8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Additional rules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*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0" lang="en-US" sz="3200" spc="-1" strike="noStrike" u="sng" baseline="30000">
                <a:solidFill>
                  <a:srgbClr val="000000"/>
                </a:solidFill>
                <a:uFillTx/>
                <a:latin typeface="Arial"/>
              </a:rPr>
              <a:t>3/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/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Even trickier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5/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2" name=""/>
          <p:cNvGraphicFramePr/>
          <p:nvPr/>
        </p:nvGraphicFramePr>
        <p:xfrm>
          <a:off x="457200" y="2666880"/>
          <a:ext cx="1447920" cy="114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666880"/>
                    <a:ext cx="1447920" cy="11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4" name=""/>
          <p:cNvGraphicFramePr/>
          <p:nvPr/>
        </p:nvGraphicFramePr>
        <p:xfrm>
          <a:off x="457200" y="4800600"/>
          <a:ext cx="2666880" cy="1270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4800600"/>
                    <a:ext cx="2666880" cy="12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Write in radical form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/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n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/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5/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y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5/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Write in exponential form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√(5x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9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√(16w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9T01:23:05Z</dcterms:created>
  <dc:creator>nuhs</dc:creator>
  <dc:description/>
  <dc:language>en-US</dc:language>
  <cp:lastModifiedBy>nuhs</cp:lastModifiedBy>
  <dcterms:modified xsi:type="dcterms:W3CDTF">2007-11-19T21:35:26Z</dcterms:modified>
  <cp:revision>3</cp:revision>
  <dc:subject/>
  <dc:title>10.3: rational exponents</dc:title>
</cp:coreProperties>
</file>